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85D-6A59-4F20-8730-E471C33E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979-E46D-483D-8B3C-0DA49168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6F3-023B-4EDD-9199-4412E017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CD3-F918-43EA-BE1C-D8F051A5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BFF-C42C-496D-A595-DED36015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B1CD-58B9-4F5D-836A-627463B4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135-5692-47D9-8F67-C7C0DB65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089-CAD7-45C6-AF57-1D229428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029-2B51-4E3F-9839-2222E75D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411-6FA1-4183-82A6-495D64F8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714-8DC6-458A-A914-FB200226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7FAB-BEFB-47E4-A8B7-685DBA2C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E477-01A9-422E-A1E9-4875E603CD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BC1A-E4F7-43E3-AD61-8CE72720D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85800" y="1143000"/>
            <a:ext cx="7696080" cy="37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d5eff"/>
                </a:solidFill>
                <a:latin typeface="Trebuchet MS"/>
              </a:rPr>
              <a:t>Interrelationship between </a:t>
            </a:r>
            <a:r>
              <a:rPr b="1" lang="en-US" sz="2000" spc="-1" strike="noStrike">
                <a:solidFill>
                  <a:srgbClr val="0d5eff"/>
                </a:solidFill>
                <a:latin typeface="Trebuchet MS"/>
              </a:rPr>
              <a:t>Public Expenditure and Economic Growth in Odisha: A Time Serie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rebuchet MS"/>
              </a:rPr>
              <a:t>Presen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ditya Kumar Pa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ader in Ec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rth Oriss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9C26-FE0D-495B-9F02-F2DA2FA8D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6019920" y="609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Lucida Calligraphy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A9C0-F86E-447B-8BFB-54EDBDF23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838080" y="762120"/>
          <a:ext cx="3886200" cy="5643360"/>
        </p:xfrm>
        <a:graphic>
          <a:graphicData uri="http://schemas.openxmlformats.org/drawingml/2006/table">
            <a:tbl>
              <a:tblPr/>
              <a:tblGrid>
                <a:gridCol w="1784520"/>
                <a:gridCol w="1050840"/>
                <a:gridCol w="1050840"/>
              </a:tblGrid>
              <a:tr h="2458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ector Autoregression Estim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 errors in ( ) &amp; t-statistics in [ 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(LNGS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(LNA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(LNGSDP(-1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0.2293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0.145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0.1606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0.158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[-1.42763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[-0.91869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(LNAE(-1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2943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0.594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0.1366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0.1344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50"/>
                          </a:solidFill>
                          <a:latin typeface="Trebuchet MS"/>
                          <a:ea typeface="Times New Roman"/>
                        </a:rPr>
                        <a:t>[ 2.15385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[-4.42017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1198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230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0.0327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0.032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[ 3.6583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[ 7.13772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aike information criter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4.7368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chwarz criter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4.4728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Box 7"/>
          <p:cNvSpPr/>
          <p:nvPr/>
        </p:nvSpPr>
        <p:spPr>
          <a:xfrm>
            <a:off x="5257800" y="1219320"/>
            <a:ext cx="3581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5eff"/>
                </a:solidFill>
                <a:latin typeface="Trebuchet MS"/>
              </a:rPr>
              <a:t>As both series are I(1), so 1</a:t>
            </a:r>
            <a:r>
              <a:rPr b="0" lang="en-US" sz="2000" spc="-1" strike="noStrike" baseline="30000">
                <a:solidFill>
                  <a:srgbClr val="0d5eff"/>
                </a:solidFill>
                <a:latin typeface="Trebuchet MS"/>
              </a:rPr>
              <a:t>st</a:t>
            </a:r>
            <a:r>
              <a:rPr b="0" lang="en-US" sz="2000" spc="-1" strike="noStrike">
                <a:solidFill>
                  <a:srgbClr val="0d5eff"/>
                </a:solidFill>
                <a:latin typeface="Trebuchet MS"/>
              </a:rPr>
              <a:t> difference of these variables are used for estimation of VAR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is observed that </a:t>
            </a:r>
            <a:r>
              <a:rPr b="0" lang="en-US" sz="2000" spc="-1" strike="noStrike">
                <a:solidFill>
                  <a:srgbClr val="b930d0"/>
                </a:solidFill>
                <a:latin typeface="Trebuchet MS"/>
              </a:rPr>
              <a:t>higher growth of aggregate expenditure [d(LNAE)] during period (t-1) leads to higher growth of gross state domestic product [d(LNGSDP)] in period t.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is revealed from statistical significance of computed t for the estimated coefficient of d[LANE(-1)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7238880" y="609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Lucida Calligraphy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1196-9499-4127-8E2E-3F758EE40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533520" y="609480"/>
            <a:ext cx="2819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estimated VAR is </a:t>
            </a:r>
            <a:r>
              <a:rPr b="1" lang="en-US" sz="2000" spc="-1" strike="noStrike">
                <a:solidFill>
                  <a:srgbClr val="200fa1"/>
                </a:solidFill>
                <a:latin typeface="Trebuchet MS"/>
              </a:rPr>
              <a:t>robust &amp; stabl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 as it satisfy the </a:t>
            </a:r>
            <a:r>
              <a:rPr b="0" lang="en-US" sz="2000" spc="-1" strike="noStrike">
                <a:solidFill>
                  <a:srgbClr val="00b050"/>
                </a:solidFill>
                <a:latin typeface="Trebuchet MS"/>
              </a:rPr>
              <a:t>autocorrelation &amp; normality test and all the roots lie inside the unit circl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343400" y="1143000"/>
          <a:ext cx="4495680" cy="1909800"/>
        </p:xfrm>
        <a:graphic>
          <a:graphicData uri="http://schemas.openxmlformats.org/drawingml/2006/table">
            <a:tbl>
              <a:tblPr/>
              <a:tblGrid>
                <a:gridCol w="574560"/>
                <a:gridCol w="2241720"/>
                <a:gridCol w="1679400"/>
              </a:tblGrid>
              <a:tr h="4899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ull Hypothesis: </a:t>
                      </a: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rebuchet MS"/>
                          <a:ea typeface="Times New Roman"/>
                        </a:rPr>
                        <a:t>No serial correlatio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at lag order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L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LM-S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-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.1232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38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.641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15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2193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87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.314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36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.936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2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57200" y="3962520"/>
          <a:ext cx="4751280" cy="1226880"/>
        </p:xfrm>
        <a:graphic>
          <a:graphicData uri="http://schemas.openxmlformats.org/drawingml/2006/table">
            <a:tbl>
              <a:tblPr/>
              <a:tblGrid>
                <a:gridCol w="1154160"/>
                <a:gridCol w="1260360"/>
                <a:gridCol w="1076400"/>
                <a:gridCol w="1260360"/>
              </a:tblGrid>
              <a:tr h="245520"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ull Hypothesis: </a:t>
                      </a: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rebuchet MS"/>
                          <a:ea typeface="Times New Roman"/>
                        </a:rPr>
                        <a:t>residuals are multivariate 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mpo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Jarque-B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204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29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7958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24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J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.2163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26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5715000" y="3429000"/>
            <a:ext cx="30193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5943600" y="609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Lucida Calligraphy"/>
              </a:rPr>
              <a:t>Cointegratio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1FD0-71B4-427D-9BE2-C02EE09F8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1066680" y="1447920"/>
            <a:ext cx="74678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To ascertain long run relation it is essential to estimated cointegrating equation, which involves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wo steps (Engel-Granger): 1) Estimate the long-run (possible co-integrating) relationship 2) Check for (cointegration) the order of integration of the residual. If the residual is found to be stationary, the variables are cointegr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The estimated cointegrating relationship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LNAE = -1.153114</a:t>
            </a:r>
            <a:r>
              <a:rPr b="0" lang="en-IN" sz="2000" spc="-1" strike="noStrike" baseline="30000">
                <a:solidFill>
                  <a:srgbClr val="000000"/>
                </a:solidFill>
                <a:latin typeface="Trebuchet MS"/>
              </a:rPr>
              <a:t>*</a:t>
            </a: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 + 0.966373</a:t>
            </a:r>
            <a:r>
              <a:rPr b="0" lang="en-IN" sz="2000" spc="-1" strike="noStrike" baseline="30000">
                <a:solidFill>
                  <a:srgbClr val="000000"/>
                </a:solidFill>
                <a:latin typeface="Trebuchet MS"/>
              </a:rPr>
              <a:t>*</a:t>
            </a: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LNGS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t:  (-7.194860)     (64.305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p: (0.0000)          (0.0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R</a:t>
            </a:r>
            <a:r>
              <a:rPr b="0" lang="en-IN" sz="20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: 0.991369; DW: 1.0048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* implies significance at 1%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0fa1"/>
                </a:solidFill>
                <a:latin typeface="Trebuchet MS"/>
              </a:rPr>
              <a:t>slope coefficient 0.966373 represents long-run elasticity of AE to change in GS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5943600" y="609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Lucida Calligraphy"/>
              </a:rPr>
              <a:t>Cointegratio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15DF-0699-4E96-8300-24C653D81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609480" y="1219320"/>
            <a:ext cx="807732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et us examine the order of integration of the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Estimated </a:t>
            </a:r>
            <a:r>
              <a:rPr b="0" lang="en-US" sz="1800" spc="-1" strike="noStrike">
                <a:solidFill>
                  <a:srgbClr val="200fa1"/>
                </a:solidFill>
                <a:latin typeface="Trebuchet MS"/>
              </a:rPr>
              <a:t>τ Statistic of the residual is -3.2285 with p-value 0.0262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 This implies that </a:t>
            </a:r>
            <a:r>
              <a:rPr b="0" lang="en-US" sz="1800" spc="-1" strike="noStrike">
                <a:solidFill>
                  <a:srgbClr val="200fa1"/>
                </a:solidFill>
                <a:latin typeface="Trebuchet MS"/>
              </a:rPr>
              <a:t>the residual series is stationary and therefore the variables are cointegrated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Trebuchet MS"/>
              </a:rPr>
              <a:t>Now the estimated </a:t>
            </a:r>
            <a:r>
              <a:rPr b="1" lang="en-IN" sz="1800" spc="-1" strike="noStrike">
                <a:solidFill>
                  <a:srgbClr val="c00000"/>
                </a:solidFill>
                <a:latin typeface="Trebuchet MS"/>
              </a:rPr>
              <a:t>Error Correction Model </a:t>
            </a:r>
            <a:r>
              <a:rPr b="0" lang="en-IN" sz="1800" spc="-1" strike="noStrike">
                <a:solidFill>
                  <a:srgbClr val="000000"/>
                </a:solidFill>
                <a:latin typeface="Trebuchet MS"/>
              </a:rPr>
              <a:t>runs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Trebuchet MS"/>
              </a:rPr>
              <a:t>d(LNAE) =  0.152054</a:t>
            </a:r>
            <a:r>
              <a:rPr b="0" lang="en-IN" sz="1800" spc="-1" strike="noStrike" baseline="30000">
                <a:solidFill>
                  <a:srgbClr val="000000"/>
                </a:solidFill>
                <a:latin typeface="Trebuchet MS"/>
              </a:rPr>
              <a:t>*</a:t>
            </a:r>
            <a:r>
              <a:rPr b="0" lang="en-IN" sz="1800" spc="-1" strike="noStrike">
                <a:solidFill>
                  <a:srgbClr val="000000"/>
                </a:solidFill>
                <a:latin typeface="Trebuchet MS"/>
              </a:rPr>
              <a:t> - 0.186988 d(LNGSDP) – 0.270468</a:t>
            </a:r>
            <a:r>
              <a:rPr b="0" lang="en-IN" sz="1800" spc="-1" strike="noStrike" baseline="30000">
                <a:solidFill>
                  <a:srgbClr val="000000"/>
                </a:solidFill>
                <a:latin typeface="Trebuchet MS"/>
              </a:rPr>
              <a:t>*</a:t>
            </a:r>
            <a:r>
              <a:rPr b="0" lang="en-IN" sz="1800" spc="-1" strike="noStrike">
                <a:solidFill>
                  <a:srgbClr val="000000"/>
                </a:solidFill>
                <a:latin typeface="Trebuchet MS"/>
              </a:rPr>
              <a:t>(res)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Trebuchet MS"/>
              </a:rPr>
              <a:t>t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IN" sz="1800" spc="-1" strike="noStrike">
                <a:solidFill>
                  <a:srgbClr val="000000"/>
                </a:solidFill>
                <a:latin typeface="Trebuchet MS"/>
              </a:rPr>
              <a:t>t:   (5.351921)       (-0.973521)                   (-2.3252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IN" sz="1800" spc="-1" strike="noStrike">
                <a:solidFill>
                  <a:srgbClr val="000000"/>
                </a:solidFill>
                <a:latin typeface="Trebuchet MS"/>
              </a:rPr>
              <a:t>p:  (0.0000)           (0.3372)                        (0.026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IN" sz="1800" spc="-1" strike="noStrike">
                <a:solidFill>
                  <a:srgbClr val="000000"/>
                </a:solidFill>
                <a:latin typeface="Trebuchet MS"/>
              </a:rPr>
              <a:t>R</a:t>
            </a:r>
            <a:r>
              <a:rPr b="0" lang="en-IN" sz="18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Trebuchet MS"/>
              </a:rPr>
              <a:t>: 0.205891 </a:t>
            </a:r>
            <a:r>
              <a:rPr b="0" lang="en-IN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IN" sz="1800" spc="-1" strike="noStrike">
                <a:solidFill>
                  <a:srgbClr val="000000"/>
                </a:solidFill>
                <a:latin typeface="Trebuchet MS"/>
              </a:rPr>
              <a:t>DW: 2.5557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IN" sz="1800" spc="-1" strike="noStrike">
                <a:solidFill>
                  <a:srgbClr val="000000"/>
                </a:solidFill>
                <a:latin typeface="Trebuchet MS"/>
              </a:rPr>
              <a:t>* implies significance at 1%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30d0"/>
                </a:solidFill>
                <a:latin typeface="Trebuchet MS"/>
              </a:rPr>
              <a:t>The coefficient of the residual term is negative (-0.270468) and statistically significant, implies if there were any short-term disturbance from the long-run stable relationship as depicted by the cointegrating relationship then such disturbance would be corrected over the time and the long-run stable relationship would be restored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coefficient of LNGSDP gives short-run elasticity of AE w.r.t. GSDP, this is statistically not signific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5105520" y="609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Lucida Calligraphy"/>
              </a:rPr>
              <a:t>Granger Causality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9CD6-BF10-4CD9-BB62-6743612C3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762120" y="388620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To </a:t>
            </a:r>
            <a:r>
              <a:rPr b="0" lang="en-IN" sz="2000" spc="-1" strike="noStrike">
                <a:solidFill>
                  <a:srgbClr val="0d5eff"/>
                </a:solidFill>
                <a:latin typeface="Trebuchet MS"/>
              </a:rPr>
              <a:t>analyse short term dynamics </a:t>
            </a: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of the variables </a:t>
            </a:r>
            <a:r>
              <a:rPr b="0" lang="en-IN" sz="2000" spc="-1" strike="noStrike">
                <a:solidFill>
                  <a:srgbClr val="0d5eff"/>
                </a:solidFill>
                <a:latin typeface="Trebuchet MS"/>
              </a:rPr>
              <a:t>Granger causality</a:t>
            </a: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 test is appl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It is seen that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2000" spc="-1" strike="noStrike">
                <a:solidFill>
                  <a:srgbClr val="00b050"/>
                </a:solidFill>
                <a:latin typeface="Trebuchet MS"/>
              </a:rPr>
              <a:t>unidirectional causality runs from AE to GSD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38080" y="1143000"/>
          <a:ext cx="7620120" cy="2560680"/>
        </p:xfrm>
        <a:graphic>
          <a:graphicData uri="http://schemas.openxmlformats.org/drawingml/2006/table">
            <a:tbl>
              <a:tblPr/>
              <a:tblGrid>
                <a:gridCol w="1905120"/>
                <a:gridCol w="1903320"/>
                <a:gridCol w="1906560"/>
                <a:gridCol w="1905120"/>
              </a:tblGrid>
              <a:tr h="32076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able VI: Pair wise Granger Causality Te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ull Hypo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-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c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(LNAE) does not Granger Cause D(LNGS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.639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0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eject Nu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(LNGSDP) does not Granger Cause D(LNA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843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3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o not Reject Nu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609480" y="1219320"/>
            <a:ext cx="8153640" cy="50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y employing the time series econometric analysis we observe that in Odisha </a:t>
            </a:r>
            <a:r>
              <a:rPr b="1" lang="en-US" sz="2000" spc="-1" strike="noStrike">
                <a:solidFill>
                  <a:srgbClr val="200fa1"/>
                </a:solidFill>
                <a:latin typeface="Trebuchet MS"/>
              </a:rPr>
              <a:t>AE causes GSD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is observed that </a:t>
            </a:r>
            <a:r>
              <a:rPr b="1" lang="en-US" sz="2000" spc="-1" strike="noStrike">
                <a:solidFill>
                  <a:srgbClr val="00b050"/>
                </a:solidFill>
                <a:latin typeface="Trebuchet MS"/>
              </a:rPr>
              <a:t>both the series are non-stationary at level but becomes stationary after first differenc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2000" spc="-1" strike="noStrike">
                <a:solidFill>
                  <a:srgbClr val="e46c0a"/>
                </a:solidFill>
                <a:latin typeface="Trebuchet MS"/>
              </a:rPr>
              <a:t>Granger Causality Tes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 which exposes the </a:t>
            </a:r>
            <a:r>
              <a:rPr b="1" lang="en-US" sz="2000" spc="-1" strike="noStrike">
                <a:solidFill>
                  <a:srgbClr val="e46c0a"/>
                </a:solidFill>
                <a:latin typeface="Trebuchet MS"/>
              </a:rPr>
              <a:t>short-term relationshi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between any two variables, reveals that </a:t>
            </a:r>
            <a:r>
              <a:rPr b="1" lang="en-US" sz="2000" spc="-1" strike="noStrike">
                <a:solidFill>
                  <a:srgbClr val="e46c0a"/>
                </a:solidFill>
                <a:latin typeface="Trebuchet MS"/>
              </a:rPr>
              <a:t>causality runs from Aggregate Expenditure to Gross State Domestic Produc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rom the estimated </a:t>
            </a:r>
            <a:r>
              <a:rPr b="1" lang="en-US" sz="2000" spc="-1" strike="noStrike">
                <a:solidFill>
                  <a:srgbClr val="0d5eff"/>
                </a:solidFill>
                <a:latin typeface="Trebuchet MS"/>
              </a:rPr>
              <a:t>cointegrating equatio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 it is found that there exists a </a:t>
            </a:r>
            <a:r>
              <a:rPr b="1" lang="en-US" sz="2000" spc="-1" strike="noStrike">
                <a:solidFill>
                  <a:srgbClr val="0d5eff"/>
                </a:solidFill>
                <a:latin typeface="Trebuchet MS"/>
              </a:rPr>
              <a:t>long run relationship between Aggregate Expenditure and Gross State Domestic Produc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refore the </a:t>
            </a:r>
            <a:r>
              <a:rPr b="1" lang="en-US" sz="2000" spc="-1" strike="noStrike">
                <a:solidFill>
                  <a:srgbClr val="b930d0"/>
                </a:solidFill>
                <a:latin typeface="Trebuchet MS"/>
              </a:rPr>
              <a:t>results of our study are quite consistent with the Keynesian propositio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6019920" y="609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Lucida Calligraphy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6BB7-6D76-4797-A9D3-40F5F7BE9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5800" y="1219320"/>
            <a:ext cx="7848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3333cc"/>
                </a:solidFill>
                <a:latin typeface="Trebuchet MS"/>
              </a:rPr>
              <a:t>‘</a:t>
            </a:r>
            <a:r>
              <a:rPr b="1" lang="en-IN" sz="2000" spc="-1" strike="noStrike">
                <a:solidFill>
                  <a:srgbClr val="3333cc"/>
                </a:solidFill>
                <a:latin typeface="Trebuchet MS"/>
              </a:rPr>
              <a:t>Public Expenditur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It is not only a financial mechanism rather a means to secure social objec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 UDCs it plays as an instrument for re-allocation of resources to narrow down the differences between social and private marginal productivity of the capital investment. In DCs it is to maintain stab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owever, it serves a very vital role for controlling inflation, unemployment, balance of payments disequilibrium in bo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019920" y="609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Lucida Calligraphy"/>
              </a:rPr>
              <a:t>Pre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66D3-E095-4CEF-B049-2BEF8ADA7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09480" y="1371600"/>
            <a:ext cx="807732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re is a positive relationship between growth of public expenditure and growth of the econ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Growth of GSD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PE as %of GS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000-01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.36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41.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008-09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6.94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7.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rebuchet MS"/>
              </a:rPr>
              <a:t>To examine the level and pattern of public expenditure in Odis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 find out the linkage between total public spending and the growth of the economy of Odis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6019920" y="609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Lucida Calligraphy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9443-129B-4C42-852B-6CEF5E646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6019920" y="609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Lucida Calligraphy"/>
              </a:rPr>
              <a:t>Growth &amp;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38AE-3131-45EF-BF51-995972479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85800" y="1371600"/>
            <a:ext cx="7696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relationship between public expenditure and economic growth has been an ongoing debate in the literature of economic develop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wo basic approaches are generally adopted in the literature to address this iss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approaches are spearheaded by Adolph Wagner and J. M. Keynes with their </a:t>
            </a:r>
            <a:r>
              <a:rPr b="1" lang="en-US" sz="1800" spc="-1" strike="noStrike">
                <a:solidFill>
                  <a:srgbClr val="200fa1"/>
                </a:solidFill>
                <a:latin typeface="Trebuchet MS"/>
              </a:rPr>
              <a:t>apparently contrasting view points on the causal relatio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b050"/>
                </a:solidFill>
                <a:latin typeface="Trebuchet MS"/>
              </a:rPr>
              <a:t>Wagner</a:t>
            </a:r>
            <a:r>
              <a:rPr b="0" lang="en-IN" sz="1800" spc="-1" strike="noStrike">
                <a:solidFill>
                  <a:srgbClr val="000000"/>
                </a:solidFill>
                <a:latin typeface="Trebuchet MS"/>
              </a:rPr>
              <a:t> (1883) ‘law of increasing state activities’: </a:t>
            </a:r>
            <a:r>
              <a:rPr b="0" lang="en-IN" sz="1800" spc="-1" strike="noStrike">
                <a:solidFill>
                  <a:srgbClr val="0d5eff"/>
                </a:solidFill>
                <a:latin typeface="Trebuchet MS"/>
              </a:rPr>
              <a:t>growth causes public expend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b050"/>
                </a:solidFill>
                <a:latin typeface="Trebuchet MS"/>
              </a:rPr>
              <a:t>Keynes</a:t>
            </a:r>
            <a:r>
              <a:rPr b="0" lang="en-IN" sz="1800" spc="-1" strike="noStrike">
                <a:solidFill>
                  <a:srgbClr val="000000"/>
                </a:solidFill>
                <a:latin typeface="Trebuchet MS"/>
              </a:rPr>
              <a:t>: During recessionary phase of the business cycle public expenditure could be the most potent instrument of recovery. Thus </a:t>
            </a:r>
            <a:r>
              <a:rPr b="0" lang="en-IN" sz="1800" spc="-1" strike="noStrike">
                <a:solidFill>
                  <a:srgbClr val="0d5eff"/>
                </a:solidFill>
                <a:latin typeface="Trebuchet MS"/>
              </a:rPr>
              <a:t>public expenditure causes growth</a:t>
            </a:r>
            <a:r>
              <a:rPr b="0" lang="en-IN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6019920" y="609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Lucida Calligraphy"/>
              </a:rPr>
              <a:t>Past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4EA2-33C1-4041-B23B-A1F09D44A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685800" y="1295280"/>
            <a:ext cx="76201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mpirical works on this issue may safely be clubbed into three compartm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ome favoured the Wagner’s Law; others supported the Keynesian Approach; and third preferred n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 good number of empirical attempts have been made in past at international and at cross country level, but the result are not uni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studies by Khan (1990), Nagrajan &amp; Spears (1990), Oxley (1994), Bohl (1996), Costomitis et.al. (1996), Park (1996), Cheltos &amp; Kollias (1997), Ghali (1998), Gerson (1998) etc. </a:t>
            </a:r>
            <a:r>
              <a:rPr b="0" lang="en-US" sz="1800" spc="-1" strike="noStrike">
                <a:solidFill>
                  <a:srgbClr val="200fa1"/>
                </a:solidFill>
                <a:latin typeface="Trebuchet MS"/>
              </a:rPr>
              <a:t>supported the Wagner’s view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adhan (2007), Babatunde (2008), Ighodaro and Oriakhi (2010), Magazzino (2010), Dadan (2011) &amp; Bataineh (2012), Sevietenyi (2012), etc. </a:t>
            </a:r>
            <a:r>
              <a:rPr b="0" lang="en-US" sz="1800" spc="-1" strike="noStrike">
                <a:solidFill>
                  <a:srgbClr val="3399ff"/>
                </a:solidFill>
                <a:latin typeface="Trebuchet MS"/>
              </a:rPr>
              <a:t>confirmed the presence of Keynesian propositio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ngh and Sahni (1984), Ahsan et al. (1992) </a:t>
            </a:r>
            <a:r>
              <a:rPr b="0" lang="en-US" sz="1800" spc="-1" strike="noStrike">
                <a:solidFill>
                  <a:srgbClr val="00b050"/>
                </a:solidFill>
                <a:latin typeface="Trebuchet MS"/>
              </a:rPr>
              <a:t>supported non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6019920" y="609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Lucida Calligraphy"/>
              </a:rPr>
              <a:t>Past Studies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A748-37A8-4952-B671-33AF16D92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09480" y="129528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rebuchet MS"/>
              </a:rPr>
              <a:t>Empirical works in India also revealed the same trend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ulsidharan (2006), Verma and Arora (2010), Rizvi and Shamam, (2010 ), Srinivasan (2013), : Growth causes expend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anjan and Sharma (2008), Gangal and Gupta (2013 ), Lhoungu &amp; Mishra (2016): Expenditure causes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ngh and Sahni (1984), Ray and Ray (2012): Supported 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hanty (2011): growth augmenting public expenditure or size of the government is stronger than its reverse caus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457200" y="1523880"/>
            <a:ext cx="82296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eriod: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Trebuchet MS"/>
              </a:rPr>
              <a:t>1980-81 to 2017-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rea: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200fa1"/>
                </a:solidFill>
                <a:latin typeface="Trebuchet MS"/>
              </a:rPr>
              <a:t>Odisha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Data: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b050"/>
                </a:solidFill>
                <a:latin typeface="Trebuchet MS"/>
              </a:rPr>
              <a:t>Secondary Sources: RBI &amp; C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IN" sz="1800" spc="-1" strike="noStrike">
                <a:solidFill>
                  <a:srgbClr val="000000"/>
                </a:solidFill>
                <a:latin typeface="Trebuchet MS"/>
              </a:rPr>
              <a:t>Parameter:</a:t>
            </a:r>
            <a:r>
              <a:rPr b="1" lang="en-IN" sz="18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en-IN" sz="18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IN" sz="18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IN" sz="1800" spc="-1" strike="noStrike">
                <a:solidFill>
                  <a:srgbClr val="c00000"/>
                </a:solidFill>
                <a:latin typeface="Trebuchet MS"/>
              </a:rPr>
              <a:t>GSDP</a:t>
            </a:r>
            <a:r>
              <a:rPr b="1" lang="en-IN" sz="1800" spc="-1" strike="noStrike">
                <a:solidFill>
                  <a:srgbClr val="000000"/>
                </a:solidFill>
                <a:latin typeface="Trebuchet MS"/>
              </a:rPr>
              <a:t> (proxy variable of grow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IN" sz="1800" spc="-1" strike="noStrike">
                <a:solidFill>
                  <a:srgbClr val="000000"/>
                </a:solidFill>
                <a:latin typeface="Trebuchet MS"/>
              </a:rPr>
              <a:t>Price: </a:t>
            </a:r>
            <a:r>
              <a:rPr b="1" lang="en-IN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IN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IN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IN" sz="1800" spc="-1" strike="noStrike">
                <a:solidFill>
                  <a:srgbClr val="000000"/>
                </a:solidFill>
                <a:latin typeface="Trebuchet MS"/>
              </a:rPr>
              <a:t>Current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echnique: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e46c0a"/>
                </a:solidFill>
                <a:latin typeface="Trebuchet MS"/>
              </a:rPr>
              <a:t>Time Series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tationarity Test: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Trebuchet MS"/>
              </a:rPr>
              <a:t>ADF &amp; PP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Long-run: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70c0"/>
                </a:solidFill>
                <a:latin typeface="Trebuchet MS"/>
              </a:rPr>
              <a:t>Engle-Granger cointegration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hort-rnu: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b930d0"/>
                </a:solidFill>
                <a:latin typeface="Trebuchet MS"/>
              </a:rPr>
              <a:t>Granger Causality 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oftware: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6019920" y="609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Lucida Calligraphy"/>
              </a:rPr>
              <a:t>The B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9450-EC18-459A-A415-7E0D614D4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838080" y="1295280"/>
            <a:ext cx="762012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king Aggregate Expenditure and GSDP of Odis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6019920" y="609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Lucida Calligraphy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8637-AD10-4DE4-9DD4-17EAD49A2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hart 1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6019920" y="609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Lucida Calligraphy"/>
              </a:rPr>
              <a:t>Stationarity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E758-C96B-49B5-9848-91B76CB63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304920" y="4876920"/>
            <a:ext cx="853416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Kinnon (1996) critical value has been used for testing of unit ro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The series has unit root against, 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The series does not have unit root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asterisk ‘* &amp; **' indicate stationarity at 1% &amp; 5% levels respective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400" spc="-1" strike="noStrike">
                <a:solidFill>
                  <a:srgbClr val="200fa1"/>
                </a:solidFill>
                <a:latin typeface="Trebuchet MS"/>
              </a:rPr>
              <a:t>Both ADF &amp; PP tests confirmed that GSDP &amp; AE are non-stationary at level, but by taking the first difference they ae station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1143000"/>
          <a:ext cx="7696080" cy="365760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1282680"/>
                <a:gridCol w="1282680"/>
                <a:gridCol w="1282680"/>
              </a:tblGrid>
              <a:tr h="37728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Estimated τ Statistic Value under Unit Root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ugmented Dickey Fuller (ADF)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e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tercept al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tercept + Tr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r>
                        <a:rPr b="1" lang="en-IN" sz="14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</a:t>
                      </a: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diffe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r>
                        <a:rPr b="1" lang="en-IN" sz="14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</a:t>
                      </a: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diffe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LNGS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0.0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8.154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3.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8.034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LN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12.099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3.622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11.988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hillips-Perron (PP)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LNGS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0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8.185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2.9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8.062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LN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6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12.008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3.832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11.989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ELL</dc:creator>
  <dc:description/>
  <dc:language>en-US</dc:language>
  <cp:lastModifiedBy>DELL</cp:lastModifiedBy>
  <dcterms:modified xsi:type="dcterms:W3CDTF">2020-08-30T04:46:57Z</dcterms:modified>
  <cp:revision>156</cp:revision>
  <dc:subject/>
  <dc:title>Slide 1</dc:title>
</cp:coreProperties>
</file>